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2BD-F18E-4FA4-B9C4-9D4676A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997-A557-4D4C-ACFE-6746C907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857-A63C-4DE2-83B7-5D90E2FD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C1E-F733-47BF-B84E-F9FED092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BDF-BC4C-4EE0-BF4C-493784FF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29C-EE56-4938-8DC5-E1347CA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456-978F-4DBC-8142-47680D3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F69-920B-40DF-B7DD-B788904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79B-0C7E-42E3-ABE1-2A27185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705-9B8D-4AB2-9293-C4D2FBA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3C8-9AC3-41B0-A1B7-E02DA68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D9C-4892-488E-9C25-53A86AD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ACB-C527-4A89-874C-BEEFECC7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C:\Documents and Settings\Ace\My Documents\Classes\Grade 12 MCB4U Calculus\Ch.3 Rates of Change in Polynomial Models\Ch03.05.gsp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.5  Finding Some Shortcuts -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The Constant and Power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47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ifferentiation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95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1) The derivative of a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8448" t="0" r="9236" b="21170"/>
          <a:stretch/>
        </p:blipFill>
        <p:spPr>
          <a:xfrm>
            <a:off x="533520" y="2743200"/>
            <a:ext cx="2971800" cy="28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514680" y="459576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33386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7432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 is the same for all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the rate of change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267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4962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64120" y="5494320"/>
          <a:ext cx="146052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4120" y="5494320"/>
                    <a:ext cx="14605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95880" y="571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ebnitz n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Sum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16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0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76560" y="10638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400480" y="1724040"/>
          <a:ext cx="608616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724040"/>
                    <a:ext cx="60861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52440" y="3276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Dif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327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14960" y="40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40356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774880" y="4664160"/>
          <a:ext cx="608652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4880" y="4664160"/>
                    <a:ext cx="60865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128268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640" y="193680"/>
            <a:ext cx="75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Derivative of any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5520" y="19256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n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685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lynomial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514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124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74680" y="3749760"/>
          <a:ext cx="4235400" cy="97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3749760"/>
                    <a:ext cx="42354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76520" y="4800600"/>
          <a:ext cx="6273720" cy="9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00600"/>
                    <a:ext cx="62737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495440" y="59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 +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77472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A golf ball is hit with an initial velocity of 20 m/s. 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s the height of the ball. Determine the instantaneous rate of change of the height of the ball at 0.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to the initial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200" y="3214800"/>
            <a:ext cx="30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33760" y="3214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3933720"/>
            <a:ext cx="38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0.5) = –9.8(0.5)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2400" y="44956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–4.9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89160" y="504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683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0.5 second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change of the golf ball is 15.1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6100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63244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0040" y="44355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066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6248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033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496200" y="838080"/>
          <a:ext cx="1218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6200" y="838080"/>
                    <a:ext cx="1218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81240" y="18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733920" y="1628640"/>
          <a:ext cx="114300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28640"/>
                    <a:ext cx="1143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15200" y="1833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971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2) The Derivative of a Power Function: (Power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581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integer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17672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4838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9520" y="4838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576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84480" y="5438880"/>
          <a:ext cx="134964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4480" y="5438880"/>
                    <a:ext cx="1349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448320" y="559584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1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800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4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3) The General Pow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907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number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38680" y="1523880"/>
          <a:ext cx="238428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1523880"/>
                    <a:ext cx="23842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38240" y="172404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ebnitz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680" y="257040"/>
            <a:ext cx="82296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86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iate each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443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7680" y="4129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7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8240" y="48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–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92240" y="5427720"/>
          <a:ext cx="8794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2240" y="5427720"/>
                    <a:ext cx="879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038480" y="3379680"/>
          <a:ext cx="16653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379680"/>
                    <a:ext cx="16653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61040" y="4151160"/>
          <a:ext cx="104904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1040" y="4151160"/>
                    <a:ext cx="10490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238640" y="5289480"/>
          <a:ext cx="1585800" cy="91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38640" y="5289480"/>
                    <a:ext cx="15858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791400" y="3122640"/>
          <a:ext cx="105732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91400" y="3122640"/>
                    <a:ext cx="1057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742080" y="4092480"/>
          <a:ext cx="1335240" cy="11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42080" y="4092480"/>
                    <a:ext cx="133524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761160" y="5332320"/>
          <a:ext cx="1001880" cy="91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61160" y="5332320"/>
                    <a:ext cx="10018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9" name=""/>
          <p:cNvCxnSpPr/>
          <p:nvPr/>
        </p:nvCxnSpPr>
        <p:spPr>
          <a:xfrm flipV="1">
            <a:off x="5824440" y="3580920"/>
            <a:ext cx="967680" cy="2167920"/>
          </a:xfrm>
          <a:prstGeom prst="bentConnector3">
            <a:avLst>
              <a:gd name="adj1" fmla="val 49906"/>
            </a:avLst>
          </a:prstGeom>
          <a:ln w="1260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9520" y="2570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4) The Constant Multipli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880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33760" y="1414440"/>
          <a:ext cx="37339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3760" y="1414440"/>
                    <a:ext cx="37339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971800" y="1657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5120"/>
            <a:ext cx="68580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786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iate each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81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4390920"/>
            <a:ext cx="25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(4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2640" y="51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733920" y="3562200"/>
          <a:ext cx="182232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62200"/>
                    <a:ext cx="1822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267080" y="4419720"/>
          <a:ext cx="94320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419720"/>
                    <a:ext cx="9432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253200" y="3351240"/>
          <a:ext cx="2357280" cy="106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3200" y="3351240"/>
                    <a:ext cx="23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86720" y="4503600"/>
          <a:ext cx="11001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6720" y="4503600"/>
                    <a:ext cx="11001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786720" y="5530680"/>
          <a:ext cx="122544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6720" y="5530680"/>
                    <a:ext cx="1225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0" name=""/>
          <p:cNvCxnSpPr/>
          <p:nvPr/>
        </p:nvCxnSpPr>
        <p:spPr>
          <a:xfrm flipV="1">
            <a:off x="5209920" y="3885480"/>
            <a:ext cx="1043640" cy="911880"/>
          </a:xfrm>
          <a:prstGeom prst="bentConnector3">
            <a:avLst>
              <a:gd name="adj1" fmla="val 58592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28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equation of the tang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t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a slope –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1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pe of the tangent line is the deriv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9080" y="2362320"/>
            <a:ext cx="17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 =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82760" y="4692600"/>
          <a:ext cx="11174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4692600"/>
                    <a:ext cx="11174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43000" y="3581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3 –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7440" y="4192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8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95920" y="3000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/>
          </p:cNvPr>
          <p:cNvSpPr/>
          <p:nvPr/>
        </p:nvSpPr>
        <p:spPr>
          <a:xfrm>
            <a:off x="152280" y="6248520"/>
            <a:ext cx="1447920" cy="53316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8635" h="21600">
                <a:moveTo>
                  <a:pt x="0" y="0"/>
                </a:moveTo>
                <a:lnTo>
                  <a:pt x="58635" y="0"/>
                </a:lnTo>
                <a:lnTo>
                  <a:pt x="58635" y="21600"/>
                </a:lnTo>
                <a:lnTo>
                  <a:pt x="0" y="21600"/>
                </a:lnTo>
                <a:close/>
              </a:path>
              <a:path fill="lightenLess" w="58635" h="21600">
                <a:moveTo>
                  <a:pt x="0" y="0"/>
                </a:moveTo>
                <a:lnTo>
                  <a:pt x="58635" y="0"/>
                </a:lnTo>
                <a:lnTo>
                  <a:pt x="57235" y="1400"/>
                </a:lnTo>
                <a:lnTo>
                  <a:pt x="1400" y="1400"/>
                </a:lnTo>
                <a:close/>
              </a:path>
              <a:path fill="darken" w="58635" h="21600">
                <a:moveTo>
                  <a:pt x="58635" y="0"/>
                </a:moveTo>
                <a:lnTo>
                  <a:pt x="58635" y="21600"/>
                </a:lnTo>
                <a:lnTo>
                  <a:pt x="57235" y="20200"/>
                </a:lnTo>
                <a:lnTo>
                  <a:pt x="57235" y="1400"/>
                </a:lnTo>
                <a:close/>
              </a:path>
              <a:path fill="darkenLess" w="58635" h="21600">
                <a:moveTo>
                  <a:pt x="58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235" y="20200"/>
                </a:lnTo>
                <a:close/>
              </a:path>
              <a:path fill="lighten" w="58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505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nt on the graph is (–2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562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6840" y="241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–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(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3"/>
            <a:endCxn id="130" idx="1"/>
          </p:cNvCxnSpPr>
          <p:nvPr/>
        </p:nvCxnSpPr>
        <p:spPr>
          <a:xfrm flipV="1">
            <a:off x="2819160" y="2103120"/>
            <a:ext cx="1981800" cy="3720240"/>
          </a:xfrm>
          <a:prstGeom prst="bentConnector3">
            <a:avLst>
              <a:gd name="adj1" fmla="val 38608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724280" y="40528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635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 = –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30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=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5719680"/>
            <a:ext cx="23623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934320" y="617220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925560"/>
            <a:ext cx="5791320" cy="57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581280" y="1522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572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.6  Finding Some Shortcuts -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The Sum and Difference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33992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A golf ball is hit with an initial velocity of 20 m/s. 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s the height of the ball. Determine the instantaneous rate of change of the height of the ball at 0.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18456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um of two differ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3029040"/>
            <a:ext cx="36100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019920" y="57434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7800" y="4133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25800">
            <a:off x="5753880" y="3203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0920" y="4572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0" y="51800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2440" y="583560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derivative from first princi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9120" y="1538280"/>
          <a:ext cx="3409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538280"/>
                    <a:ext cx="3409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00240" y="2306520"/>
          <a:ext cx="558144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0240" y="2306520"/>
                    <a:ext cx="5581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219320" y="3184560"/>
          <a:ext cx="59594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184560"/>
                    <a:ext cx="5959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31920" y="4114800"/>
          <a:ext cx="5000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31920" y="4114800"/>
                    <a:ext cx="5000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177920" y="4941720"/>
          <a:ext cx="325764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7920" y="4941720"/>
                    <a:ext cx="3257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71440" y="5892840"/>
          <a:ext cx="2954520" cy="5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71440" y="5892840"/>
                    <a:ext cx="2954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65880" y="4876920"/>
          <a:ext cx="254952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65880" y="4876920"/>
                    <a:ext cx="2549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345360" y="5451480"/>
          <a:ext cx="1807920" cy="41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45360" y="5451480"/>
                    <a:ext cx="1807920" cy="415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72" name=""/>
          <p:cNvCxnSpPr/>
          <p:nvPr/>
        </p:nvCxnSpPr>
        <p:spPr>
          <a:xfrm flipV="1">
            <a:off x="4125960" y="5079600"/>
            <a:ext cx="2240640" cy="1092960"/>
          </a:xfrm>
          <a:prstGeom prst="bentConnector3">
            <a:avLst>
              <a:gd name="adj1" fmla="val 49959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61960" y="958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6019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448240" y="6094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267080" y="1387440"/>
            <a:ext cx="432432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 rot="1469400">
            <a:off x="5638320" y="2958840"/>
            <a:ext cx="30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469400">
            <a:off x="5914440" y="41270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9360" y="1806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62800" y="1054080"/>
            <a:ext cx="0" cy="14162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057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graphically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6049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1:16:03Z</dcterms:created>
  <dc:creator>Peter Maher</dc:creator>
  <dc:description/>
  <dc:language>en-US</dc:language>
  <cp:lastModifiedBy>Peter Maher</cp:lastModifiedBy>
  <dcterms:modified xsi:type="dcterms:W3CDTF">2004-09-30T14:00:50Z</dcterms:modified>
  <cp:revision>28</cp:revision>
  <dc:subject/>
  <dc:title>Slide 1</dc:title>
</cp:coreProperties>
</file>